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FA3-3BF5-4B64-8954-E590B845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A71-40A8-4A2F-8FBA-366EF832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3BA-026B-4D86-8228-CC5363E1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EC3-194E-4878-AEC4-32EC3064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DD16-2F18-46AB-A58C-B1C543E1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771C-1AC9-4F3D-8F27-48BE9B62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48BE-1321-4157-BDEF-B28581E8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7A2C-63F4-46D9-A5CB-A2BE40F1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0CD4-D292-476C-88EE-4361CEE3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2591-3EEF-42E6-9F27-932CF06C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387A-5377-458E-ABD9-B31C6D3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186-672D-414D-884B-20FB5D48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91BC-356D-4D3B-BD77-0C9199B9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F546-424E-4D67-9E08-2E6AA998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65FD-96D4-4478-A1A9-BC5B1757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1CEC-B96A-442F-B157-C9739F7A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5945-1264-44B6-A522-81B0E88F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F5F4-C970-4188-8FE8-0DD6A640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CD91-093D-4F2E-9C13-4FD411E1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DA7B-2ED5-4E10-B1AC-736BA911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717E-9D3F-4562-8E11-576E04DE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E2E7-DC73-43EB-81B7-8BF3CA8B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264-8169-4F43-B37E-E1722496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371F-F932-4B86-B841-F7D887D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4565-45BA-4D1E-BDAF-4BF1922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8A03-67F5-455D-8837-13138FC5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3439-695A-48DE-B358-120442B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718C-8206-4E89-A8C4-AB1817EF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1055-4006-476F-8EA1-B6AD81BB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44D2-0B01-4825-8998-68FC16B8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29FD1-E431-4B83-B58F-11529627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79E3-1903-496D-A79C-5055072C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C2E5-5B71-4F5A-B4E7-BEEB4CC4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08A-4644-4AFB-B5BD-F9E1057D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E6381-FB16-4B1C-8481-19E8B409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EBF8-E190-4CD7-9828-6572385F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3B6E-A1ED-4CD6-8AB2-70A4F31F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FE84-FD5C-4D4D-9F81-9922758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90B43-6795-4C7F-A55E-3EB4017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F27D-CC2D-4730-B17F-5EB9D26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00AA7-2897-4BB3-9AD8-DCD43675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B52A-D524-49C0-805E-95524F7C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2427-1BCF-4748-B9D0-0E6D2E32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D81-2C05-40BB-A546-6805C86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D47-C4B3-4F01-A4FD-FEE53B52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968-53F9-430D-A2D8-AD7D6C4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F1B-A373-440B-A306-1CE163A4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D9D-2DE5-4699-9E54-B0E93CD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FDB7-0E48-4866-B1FC-6362F429DACC}" type="slidenum">
              <a:rPr b="0" lang="en-PH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9762-2F51-4066-B9DD-FA5512DB5A30}" type="slidenum">
              <a:rPr b="0" lang="en-PH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EFD7-31A9-43C0-83C2-210CFAC66F75}" type="slidenum">
              <a:rPr b="0" lang="en-PH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922-79A9-4B57-B89A-9849AC63E12B}" type="slidenum">
              <a:rPr b="0" lang="en-PH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990720" y="114300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Guidelines in th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Selection of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Instructional Material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9ecf7"/>
                </a:solidFill>
                <a:latin typeface="Copperplate Gothic Bold"/>
              </a:rPr>
              <a:t>THANK YOU!</a:t>
            </a:r>
            <a:endParaRPr b="0" lang="en-US" sz="9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334800" y="1158840"/>
            <a:ext cx="8285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termine the nee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trying to accomplish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specific instructional media addres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8" descr="8C1185C92DAD43EBB892E93DEC9157D3"/>
          <p:cNvPicPr/>
          <p:nvPr/>
        </p:nvPicPr>
        <p:blipFill>
          <a:blip r:embed="rId1"/>
          <a:stretch/>
        </p:blipFill>
        <p:spPr>
          <a:xfrm>
            <a:off x="4724280" y="22096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School library or media centre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Commercial producer and distributors of instructional media that can be bought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9" descr="Huge-Library-of-clipart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pperplate Gothic Bold"/>
              </a:rPr>
              <a:t>Check variety of sources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 Rounded MT Bold"/>
              </a:rPr>
              <a:t>Preview all materials before using them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Bold"/>
              </a:rPr>
              <a:t>Obtain and preview the materials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6" name="Picture 17" descr="0511-0902-0801-4559_Woman_Thinking_in_a_Library_clipart_image"/>
          <p:cNvPicPr/>
          <p:nvPr/>
        </p:nvPicPr>
        <p:blipFill>
          <a:blip r:embed="rId2"/>
          <a:stretch/>
        </p:blipFill>
        <p:spPr>
          <a:xfrm>
            <a:off x="4648320" y="19051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419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800" spc="-1" strike="noStrike">
                <a:solidFill>
                  <a:srgbClr val="000000"/>
                </a:solidFill>
                <a:latin typeface="Arial Rounded MT Bold"/>
              </a:rPr>
              <a:t>Effectiveness of materials to help the student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Try the materials out with studen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0" name="Picture 11" descr="teacher-students"/>
          <p:cNvPicPr/>
          <p:nvPr/>
        </p:nvPicPr>
        <p:blipFill>
          <a:blip r:embed="rId2"/>
          <a:stretch/>
        </p:blipFill>
        <p:spPr>
          <a:xfrm>
            <a:off x="4952880" y="1905120"/>
            <a:ext cx="403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Arial Rounded MT Bold"/>
              </a:rPr>
              <a:t>More than one set of applicable materials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Compare any competing materials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4" name="Picture 9" descr="0041-0701-2312-2708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800" spc="-1" strike="noStrike">
                <a:solidFill>
                  <a:srgbClr val="000000"/>
                </a:solidFill>
                <a:latin typeface="Arial Rounded MT Bold"/>
              </a:rPr>
              <a:t>Select the best instructional material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Make your selection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7" name="Picture 9" descr="teacher_clipart_1"/>
          <p:cNvPicPr/>
          <p:nvPr/>
        </p:nvPicPr>
        <p:blipFill>
          <a:blip r:embed="rId1"/>
          <a:stretch/>
        </p:blipFill>
        <p:spPr>
          <a:xfrm>
            <a:off x="5181480" y="198108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500" spc="-1" strike="noStrike">
                <a:solidFill>
                  <a:srgbClr val="000000"/>
                </a:solidFill>
                <a:latin typeface="Arial Rounded MT Bold"/>
              </a:rPr>
              <a:t>You can determine how effective the materials could be in other lesson.</a:t>
            </a:r>
            <a:endParaRPr b="0" lang="en-US" sz="4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Keep accurate records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0" name="Picture 9" descr="0511-0809-0704-1623_Frazzled_File_Clerk_Clip_Art_clipart_image"/>
          <p:cNvPicPr/>
          <p:nvPr/>
        </p:nvPicPr>
        <p:blipFill>
          <a:blip r:embed="rId1"/>
          <a:stretch/>
        </p:blipFill>
        <p:spPr>
          <a:xfrm>
            <a:off x="5105520" y="1828800"/>
            <a:ext cx="3581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rpuz, Brend B. and Lucido, Paz I (2008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ducational Technology. Quezon city: Lorimar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blishing, 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aro, Candeleria D. (2004) Educational Technology.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daluyong City National Book Stor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ucido, Paz I. and Borabo (1997) Educational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chnology. Quezon City: Katha Publishing Co.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wby, Timothy J., Stepieh, Donald A., Lehman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mes D. and Russel James D. (2000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ructional Technology for Teaching and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arning. New Jersey :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ntice-Hall, 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28:36Z</dcterms:created>
  <dc:creator>A S P I R E</dc:creator>
  <dc:description/>
  <dc:language>en-US</dc:language>
  <cp:lastModifiedBy>msu-iit</cp:lastModifiedBy>
  <dcterms:modified xsi:type="dcterms:W3CDTF">2011-06-28T03:09:42Z</dcterms:modified>
  <cp:revision>7</cp:revision>
  <dc:subject/>
  <dc:title>Slide 1</dc:title>
</cp:coreProperties>
</file>